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1B7-C0EB-4C42-951F-05581AC493FF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démarche PD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ans le Val d’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3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4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5084640"/>
            <a:ext cx="3500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férence de Territoire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9 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Une démarche conduite en 3 temp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65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état des lieux départ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concertation avec le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propositions de ré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concer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 retenus pour la concerta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 concept de territoire continue à faire sens et permet la fédération des acteur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ce qui nous a amené à organiser des réunions par anciennes mail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a collaboration du SAMU est essentielle et structurant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le SAMU a été associé à ces réun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s fédérations hospitalières sont associé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organisation des réunions département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réunions dans le Val d ’Ois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90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Réunions associant les directions d’établissements publics et priv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24 janvier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lancement de la démar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s de concertation par bassins territoriaux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6 avril 2011 : 95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9 avril 2011 : 95-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6 mai 2011 : 95-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6 juin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 présentation des enquêtes et de l’état des lieux départemen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2 octobre 2011 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nnées départementales, présentation du cahier des charges, de la procédure de sélection des sites et éléments sur le mode de financ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es proposi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e réorganis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candidatures déposé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’ex 95-1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garde alternée Groupement Hospitalier Eaubonne Montmorency/  Centre Hospitalier d’Argenteuil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SAMU est favorable à cette organisation bi-sit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tte organisation est d’ores et déjà effective depuis le 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ctobre 201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2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Gonesse est reconnu comme « tête de réseau »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sur le site de Gonesse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deux établissements (Hôpital Privé Nord Parisien de Sarcelles et Gonesse) participent à la gouvernance afin d’assurer la fluidité du dispositi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3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Pontoise est naturellement « tête de réseau »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la nuit : 15 235 passages aux urgences et 1 742 interventions)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gnature d’un protocole d’accord entre le CH de Pontoise, le Centre Hospitalier Intercommunal des Portes de l’Oise (CHIPO) de Beaumont-sur-Oise, les Cliniques Ste Marie (Osny) et Conti (L’Isle-Ada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au CH de Pontoise avec la participation ponctuelle de médecins des autres établissements (CHIPO et des cliniques Ste Marie et Conti) à partir de 22h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mise en œuvre de cette organisation est prévue pour janvier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1700" spc="-1" strike="noStrike">
                <a:solidFill>
                  <a:srgbClr val="009900"/>
                </a:solidFill>
                <a:latin typeface="Arial"/>
              </a:rPr>
              <a:t>Coopérations public / privé intéressantes pour les pati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cp:lastPrinted>2011-11-02T11:54:27Z</cp:lastPrinted>
  <dcterms:modified xsi:type="dcterms:W3CDTF">2011-11-10T10:59:05Z</dcterms:modified>
  <cp:revision>704</cp:revision>
  <dc:subject/>
  <dc:title>Présentation PowerPoint</dc:title>
</cp:coreProperties>
</file>